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11.wmf" ContentType="image/x-wmf"/>
  <Override PartName="/ppt/media/image12.png" ContentType="image/png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434-CA90-4F06-9407-97187799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205C-58A3-43E8-A342-FE263ABE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2C3-7F7C-4E32-949C-5D0F51DB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9F4C-FB6E-4F7B-8045-0226F0F5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5B01-CFEF-4A38-A097-D6B45ABE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FD8-77AC-40D5-920F-8C060322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D3B1-43AE-4099-B9B8-45C2373D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8070-90CD-4951-A91B-8CF6A791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A4E-06FA-4985-984F-B02A9BCF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9872-6F23-4C3B-B279-C0DCB83E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0103-4D24-4B1D-BA0C-31122F8E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B930-C098-4972-BD1A-2029CB58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24A9-97FE-4483-BE87-7FBA1F0BA1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Формулы сокращенного умнож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E9F1-E96F-4510-93F1-7D40EC2CB4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OWL"/>
          <p:cNvPicPr/>
          <p:nvPr/>
        </p:nvPicPr>
        <p:blipFill>
          <a:blip r:embed="rId1"/>
          <a:stretch/>
        </p:blipFill>
        <p:spPr>
          <a:xfrm>
            <a:off x="357120" y="2571840"/>
            <a:ext cx="1857600" cy="286704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3" descr=""/>
          <p:cNvPicPr/>
          <p:nvPr/>
        </p:nvPicPr>
        <p:blipFill>
          <a:blip r:embed="rId2"/>
          <a:stretch/>
        </p:blipFill>
        <p:spPr>
          <a:xfrm>
            <a:off x="1920960" y="2425680"/>
            <a:ext cx="72961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2A15-F812-468F-82E1-FE43285D66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500280" y="214200"/>
            <a:ext cx="17859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500040" y="2428920"/>
            <a:ext cx="84297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чимся применять на практике формулы сокращенного умнож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готовимся к контрольной рабо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AB2E-3D20-42BC-8D4B-14D67306AE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071800" y="214200"/>
            <a:ext cx="414324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baseline="30000">
                <a:solidFill>
                  <a:srgbClr val="ffffff"/>
                </a:solidFill>
                <a:latin typeface="Arial"/>
              </a:rPr>
              <a:t>Девиз</a:t>
            </a: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 урока</a:t>
            </a:r>
            <a:r>
              <a:rPr b="0" lang="ru-RU" sz="4400" spc="-1" strike="noStrike" baseline="30000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785880" y="2428920"/>
            <a:ext cx="75009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ло иметь хороший ум, главное – уметь его применять.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Дек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066A-E0C9-4FD7-9E84-B331CCEDEC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785960" y="1928880"/>
          <a:ext cx="5500800" cy="3357360"/>
        </p:xfrm>
        <a:graphic>
          <a:graphicData uri="http://schemas.openxmlformats.org/drawingml/2006/table">
            <a:tbl>
              <a:tblPr/>
              <a:tblGrid>
                <a:gridCol w="1882800"/>
                <a:gridCol w="3618000"/>
              </a:tblGrid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² +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 + 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- в²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 в)(а²-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+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-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 -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+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"/>
          <p:cNvSpPr/>
          <p:nvPr/>
        </p:nvSpPr>
        <p:spPr>
          <a:xfrm>
            <a:off x="1143000" y="35856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ерите и запишите форму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EF2C-F52E-47CB-8F17-D72725960E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85960" y="1928880"/>
          <a:ext cx="5500800" cy="3357360"/>
        </p:xfrm>
        <a:graphic>
          <a:graphicData uri="http://schemas.openxmlformats.org/drawingml/2006/table">
            <a:tbl>
              <a:tblPr/>
              <a:tblGrid>
                <a:gridCol w="1882800"/>
                <a:gridCol w="3618000"/>
              </a:tblGrid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+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²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 - 2ав + в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²- в²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 + 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+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+ в)(а²-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³ - в³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- в)(а² + ав + в²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1143000" y="35928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делаем проверк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C190-19DE-40FA-856C-C763580A44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071800" y="285840"/>
            <a:ext cx="60879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читайте выра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348120" y="1285920"/>
            <a:ext cx="413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-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4706280" y="1285920"/>
            <a:ext cx="42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+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xy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8"/>
          <p:cNvSpPr/>
          <p:nvPr/>
        </p:nvSpPr>
        <p:spPr>
          <a:xfrm flipH="1">
            <a:off x="4498560" y="1285920"/>
            <a:ext cx="1800" cy="500220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0" y="2714760"/>
            <a:ext cx="442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ть кубов двух выражений ра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ю раз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выражений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ый квадрат су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4518720" y="2714760"/>
            <a:ext cx="4739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  кубов дв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жений ра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ю су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х выражений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ный квадрат раз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1"/>
          <a:stretch/>
        </p:blipFill>
        <p:spPr>
          <a:xfrm rot="20800800">
            <a:off x="6170760" y="5732640"/>
            <a:ext cx="269712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9212-1DD2-4D62-AE7B-526B19126B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1695600" y="2298600"/>
            <a:ext cx="5400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14E3-A659-4B6D-9DA0-F4DB8CAA9F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071800" y="285840"/>
            <a:ext cx="60879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йдите ошиб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8"/>
          <p:cNvSpPr/>
          <p:nvPr/>
        </p:nvSpPr>
        <p:spPr>
          <a:xfrm flipH="1">
            <a:off x="4498560" y="1285920"/>
            <a:ext cx="1800" cy="500220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1"/>
          <a:stretch/>
        </p:blipFill>
        <p:spPr>
          <a:xfrm rot="20800800">
            <a:off x="6170760" y="5732640"/>
            <a:ext cx="2697120" cy="55404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0"/>
          <p:cNvSpPr/>
          <p:nvPr/>
        </p:nvSpPr>
        <p:spPr>
          <a:xfrm>
            <a:off x="21420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(49+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-10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р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р+10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а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а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2а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³- х³=(3-х)(9-3х+х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2"/>
          <p:cNvSpPr/>
          <p:nvPr/>
        </p:nvSpPr>
        <p:spPr>
          <a:xfrm>
            <a:off x="471492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-2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+х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7-14а+ а²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у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6у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³+8=(с+2)(с²+2с+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3295-A82B-4031-98DA-24E601CAE9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071800" y="285840"/>
            <a:ext cx="60879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и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8"/>
          <p:cNvSpPr/>
          <p:nvPr/>
        </p:nvSpPr>
        <p:spPr>
          <a:xfrm flipH="1">
            <a:off x="4498560" y="1285920"/>
            <a:ext cx="1800" cy="5002200"/>
          </a:xfrm>
          <a:prstGeom prst="line">
            <a:avLst/>
          </a:prstGeom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1"/>
          <a:stretch/>
        </p:blipFill>
        <p:spPr>
          <a:xfrm rot="20800800">
            <a:off x="6170760" y="5732640"/>
            <a:ext cx="2697120" cy="5540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0"/>
          <p:cNvSpPr/>
          <p:nvPr/>
        </p:nvSpPr>
        <p:spPr>
          <a:xfrm>
            <a:off x="21420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-10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р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0р+10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а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а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³- х³=(3-х)(9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х+х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2"/>
          <p:cNvSpPr/>
          <p:nvPr/>
        </p:nvSpPr>
        <p:spPr>
          <a:xfrm>
            <a:off x="4714920" y="2214720"/>
            <a:ext cx="39290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+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-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х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-а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9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4а+ а²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у+1)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6у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³+8=(с+2)(с²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с+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4:26:35Z</dcterms:created>
  <dc:creator>Администратор</dc:creator>
  <dc:description/>
  <dc:language>en-US</dc:language>
  <cp:lastModifiedBy>АДМИН</cp:lastModifiedBy>
  <dcterms:modified xsi:type="dcterms:W3CDTF">2012-03-19T07:19:03Z</dcterms:modified>
  <cp:revision>60</cp:revision>
  <dc:subject/>
  <dc:title>Тренажер №2 “Формулы сокращенного умножения”</dc:title>
</cp:coreProperties>
</file>